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D53-A00F-4F9C-9554-4DB9A91A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0D0-F1E9-4681-BABA-328D99B4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6A9-2882-4808-9698-2245A5C1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051-CD96-48C8-8838-03BC4AD1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204-0DCE-41C5-9ED4-DE885B3F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75A-61B8-4CF2-8BAF-2079A8BF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ECA-E2CF-4982-B9CF-30481282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F62-64DC-42D0-B576-07EBD4E6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FF1-D8B1-43F0-8069-6BF81976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F55-C331-47A5-8E14-7E6BF432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437-A493-48EB-91A0-A1A31FA8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E77-6422-43E1-81F4-E187F06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3639-0B93-446B-87F8-8C0AA1C8D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 31: Sec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Civil R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238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3124440" cy="210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4000680" cy="3962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3095640" cy="3962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126360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4120" y="457200"/>
            <a:ext cx="344484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Andy Warhol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Pop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75880" y="2438280"/>
            <a:ext cx="7246080" cy="2288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0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MLK Jr. is assassinat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 the Civil Rights Movement o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firmative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914400"/>
            <a:ext cx="8458200" cy="5639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 Rights Act 19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ederal law mak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orities still did not have equal access to job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65, LBJ = Affirmative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nies doing business with the government must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ly recr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African Americans (later would include other minorities and wo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d affirmative action work?  Was it a good 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firmative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066680"/>
            <a:ext cx="8458200" cy="492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Gill Sans Ultra Bold"/>
              </a:rPr>
              <a:t>How it can be go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3 = Atlanta G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. Am.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ynard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 Am pop in ATL = 50%, working on government contracts? Only 1%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son used Affirmative Action to push companies to hire more Af. Ams.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5%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firmative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066680"/>
            <a:ext cx="8458200" cy="5198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Gill Sans Ultra Bold"/>
              </a:rPr>
              <a:t>How it can be b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, Nixon = companies “must show” affirmative action…how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al Quota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verse Discrim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versity of California Regent v. Allan Bak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an Bak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hite student, applied to med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= deni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finds out that the school had racial quotas, meant that minority students with lower test scores were getting in just because of their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819520" y="914400"/>
            <a:ext cx="3338280" cy="4940280"/>
            <a:chOff x="2819520" y="914400"/>
            <a:chExt cx="3338280" cy="49402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819520" y="914400"/>
              <a:ext cx="3338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5029200"/>
              <a:ext cx="190512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Ultra Bold"/>
                </a:rPr>
                <a:t>Maynard Jacks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133720" y="1143000"/>
            <a:ext cx="4419360" cy="4193640"/>
            <a:chOff x="2133720" y="1143000"/>
            <a:chExt cx="4419360" cy="419364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133720" y="1143000"/>
              <a:ext cx="441936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504960" y="4876920"/>
              <a:ext cx="190476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Ultra Bold"/>
                </a:rPr>
                <a:t>Allan Bak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1066680"/>
            <a:ext cx="6858000" cy="5245200"/>
            <a:chOff x="990720" y="1066680"/>
            <a:chExt cx="6858000" cy="524520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990720" y="1066680"/>
              <a:ext cx="6858000" cy="40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276720" y="5486400"/>
              <a:ext cx="304812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Ultra Bold"/>
                </a:rPr>
                <a:t>Protest of the Bakke C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6250" t="26000" r="44377" b="17998"/>
          <a:stretch/>
        </p:blipFill>
        <p:spPr>
          <a:xfrm>
            <a:off x="304920" y="838080"/>
            <a:ext cx="86104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066680"/>
            <a:ext cx="8458200" cy="5487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nt Wor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avels farm-to-farm fo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igures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MT"/>
              </a:rPr>
              <a:t>Cesar Chavez &amp; Dolores Hu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ted Farm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migrant workers were guaranteed pay for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!..but it did not come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y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ape Boy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ced farm employ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ork with the u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21891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209680"/>
            <a:ext cx="57150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 31: Sec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60s Environmentalism &amp; Consume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77120" y="533520"/>
            <a:ext cx="2181240" cy="6038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676520"/>
            <a:ext cx="7696080" cy="27853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In the 1960s people started to realize that some consumer products were unsafe and/or wast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828800"/>
            <a:ext cx="7696440" cy="27853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In the 1960s people started to realize that the environment was deterio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60s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838080"/>
            <a:ext cx="8458200" cy="276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achel Cars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wrote “Silent Spring”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ll about how the pesticid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DD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as killing all the bi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DDT Ban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Three Mile Isla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Harrisburg 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clear plant leaked radiation! Town had to evacua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push for stricter plant insp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862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60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Consume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572000"/>
            <a:ext cx="8458200" cy="199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alph Nad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wrote “Unsafe at Any Speed”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y 1990 all cars had to have airba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Andy Warho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famous POP Arti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 Art = focused on popular cultural i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23:23:29Z</dcterms:created>
  <dc:creator>Administrator</dc:creator>
  <dc:description/>
  <dc:language>en-US</dc:language>
  <cp:lastModifiedBy>IT Department</cp:lastModifiedBy>
  <dcterms:modified xsi:type="dcterms:W3CDTF">2011-04-25T22:13:02Z</dcterms:modified>
  <cp:revision>9</cp:revision>
  <dc:subject/>
  <dc:title>Ch 31: Sec 3 Fighting for Greater Opportunity</dc:title>
</cp:coreProperties>
</file>